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F591-B46A-4905-8FEC-927F60489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IS MON AM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6D86-CBD1-436E-86FD-7392F17543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iramida de sticl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ste punctul principal de acces în muzeu, principala axa de circulatie in muze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AF3A-5E29-4F7B-8EB1-2166E2A0B0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erica Sacre-Coeur e ultima ridicata din fondurile statului francez, imbina stilul roman cu cel bizantin. Adaposteste si unul dintre cele mai mari clopote din lume, “La Savoyarde”, de 19 t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A19-FEA8-48A5-8753-FE5F34E42C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ilippe Morel,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L'art de la Renaissance entre science et magi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, Rennes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Pierre Chaunu, 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Civilizaţia europeană în secolul luminilor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Buc., 19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Daniel Roche,</a:t>
            </a:r>
            <a:r>
              <a:rPr b="1" lang="ro-RO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La France des Lumieres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Paris,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Georges Duby,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 Histoire de la France des origines a nos jours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Larousee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3EBE-2DDC-424E-818F-5C4975FCBB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UM INFLUENTEAZA CUNOASTEREA ISTORIEI VIATA OAMENILO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CD2F-02CF-4A88-9B28-3A6AA6178F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noasterea istoriei, obiceiurilor si traditiile unei tari ne ajuta sa ne imbogatim cunostintele pe care le putem folosi apoi in viata cotidi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8EE6-39D6-44A7-A71B-9A7CB44C9C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zentarea este o incursiune in cultura si civilizatia Frantei in cadrul unui circuit turistic, cu scopul de a cunoaste si aprofunda cunostintele despre centrul si monumentele Paris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9F36-5DC6-4127-9C58-60A2A85062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ul Eiffel a fost construit intre 1887-1889, masoara 324 m si isi schimba inaltimea de cateva ori pe an, din cauza dilatarii aliajului. Necesita 70 tone de vopsea o data la 7 a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2CC4-AF9A-4004-BE6E-5C8651CCAE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Turnu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una dintre principalele destinaţii turistice ale Parisului şi lumii, cu mai mult de 5,5 milioane de vizitatori anual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iecare ora fixa turnul se lumineaza pentru 10 min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806-21E1-4BC3-9D5E-BB5DE9D8CC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 Bouquinistes de la Se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A689-0AF2-430D-9881-4CC0C754AE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sailles,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el mai renumit palat din Franta, 350 de ani de istor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B7FD-962E-4BC6-AB69-62DD2CEE01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vrul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cel mai mare muzeu de istorie şi artă din Franţ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Adaposteste cele mai importante opere de arta din 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D104-D24E-4C49-9A33-3576CD3E31F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0B6-0656-4F0B-9DE0-FA727512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1D7-5D24-4E3E-A147-5D467D73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BC2-EB27-4032-AA10-33F67B75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185-F500-4777-8E04-8C5526D9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F4676-6AB7-417D-97C2-7745E4DA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4A95C-1E11-4211-B82E-40046180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3F7B1-8E21-446E-8F14-D2E86622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D57A2-BF81-44B6-B243-6D2E9CBD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3D571-A273-4BD2-9984-E558F7F6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7EFFE-20E6-438B-80BB-C628FFFC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3B3F7-A124-4016-8773-B3C9C92A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4ED-5E08-4D7A-872D-C4341D76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89DD8-2599-4E03-84CF-285B8E27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22333-E514-4F86-81D1-C228D3BA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79B31-C1EB-4921-A88F-C08FF566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EA4B0-BEBF-49DC-AA84-B3A83302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939F8-A10E-4F5D-9F49-D24EE540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A4F-1422-4A42-93A2-3C93F0E9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A75-0682-44AC-B19E-0AAB5D30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31B-F8AC-44DA-AB48-863395BD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D3F-8C2D-4391-B32F-40CE75BA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50D-8957-42E1-83D6-4DF0597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ADB-86AC-4B57-89FF-6FC85671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3F5-CEDA-4A1D-90B9-BF10CE4D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2CDF-83D8-44A6-8559-6D515B65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9E58-4A64-4BDE-B9BE-A0FBE8A8BA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arc-de-triomphe[1]"/>
          <p:cNvPicPr/>
          <p:nvPr/>
        </p:nvPicPr>
        <p:blipFill>
          <a:blip r:embed="rId2"/>
          <a:stretch/>
        </p:blipFill>
        <p:spPr>
          <a:xfrm>
            <a:off x="-942840" y="-447840"/>
            <a:ext cx="11991960" cy="7753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 rot="20284200">
            <a:off x="1779840" y="3149640"/>
            <a:ext cx="1097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Rockwell Extra Bold"/>
              </a:rPr>
              <a:t>PARIS MON AMOU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Louvre-pyramid-daytime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57200" y="380880"/>
            <a:ext cx="487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4d"/>
                </a:solidFill>
                <a:latin typeface="Tahoma"/>
              </a:rPr>
              <a:t>Piramida de sticlă</a:t>
            </a:r>
            <a:r>
              <a:rPr b="0" lang="en-US" sz="3200" spc="-1" strike="noStrike">
                <a:solidFill>
                  <a:srgbClr val="00004d"/>
                </a:solidFill>
                <a:latin typeface="Script MT Bold"/>
              </a:rPr>
              <a:t> este punctul principal de acces în muzeu, principala axa de circulatie in muze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sacre_coeur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45720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Rockwell Extra Bold"/>
              </a:rPr>
              <a:t>Biserica Sacre-Coeur e ultima ridicata din fondurile statului francez, imbina stilul roman cu cel bizantin. Adaposteste si unul dintre cele mai mari clopote din lume, “La Savoyarde”, de 19 to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montmart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place de la concor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4343400" y="5335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d030c"/>
                </a:solidFill>
                <a:latin typeface="Tahoma"/>
              </a:rPr>
              <a:t>Philippe Morel, </a:t>
            </a:r>
            <a:r>
              <a:rPr b="0" i="1" lang="fr-FR" sz="1800" spc="-1" strike="noStrike">
                <a:solidFill>
                  <a:srgbClr val="0d030c"/>
                </a:solidFill>
                <a:latin typeface="Tahoma"/>
              </a:rPr>
              <a:t>L'art de la Renaissance entre science et magie</a:t>
            </a:r>
            <a:r>
              <a:rPr b="0" lang="fr-FR" sz="1800" spc="-1" strike="noStrike">
                <a:solidFill>
                  <a:srgbClr val="0d030c"/>
                </a:solidFill>
                <a:latin typeface="Tahoma"/>
              </a:rPr>
              <a:t>, Rennes, 2005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Pierre Chaunu, 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Civilizaţia europeană în secolul luminilor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Buc., 198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Daniel Roche,</a:t>
            </a:r>
            <a:r>
              <a:rPr b="1" lang="ro-RO" sz="1800" spc="-1" strike="noStrike">
                <a:solidFill>
                  <a:srgbClr val="0d030c"/>
                </a:solidFill>
                <a:latin typeface="Tahoma"/>
              </a:rPr>
              <a:t> 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La France des Lumieres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Paris,199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Georges Duby,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 Histoire de la France des origines a nos jours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Larousee,199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M INFLUENTEAZA CUNOASTEREA ISTORIEI VIATA OAMENILO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4653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arc-triomphe-carrousel[1]"/>
          <p:cNvPicPr/>
          <p:nvPr/>
        </p:nvPicPr>
        <p:blipFill>
          <a:blip r:embed="rId2"/>
          <a:stretch/>
        </p:blipFill>
        <p:spPr>
          <a:xfrm>
            <a:off x="-1371600" y="-228600"/>
            <a:ext cx="1150632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 rot="20163600">
            <a:off x="650160" y="1742400"/>
            <a:ext cx="555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uhaus 93"/>
              </a:rPr>
              <a:t>CUM INFLUENTEAZA CUNOASTEREA ISTORIEI VIATA OAMENIL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grande-arche-paris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 rot="20273400">
            <a:off x="-734400" y="2116440"/>
            <a:ext cx="936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ladimir Script"/>
              </a:rPr>
              <a:t>Cunoasterea istoriei, obiceiurilor si traditiile unei tari ne ajuta sa ne imbogatim cunostintele pe care le putem folosi apoi in viata cotidian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RCHE031"/>
          <p:cNvPicPr/>
          <p:nvPr/>
        </p:nvPicPr>
        <p:blipFill>
          <a:blip r:embed="rId2"/>
          <a:stretch/>
        </p:blipFill>
        <p:spPr>
          <a:xfrm>
            <a:off x="457200" y="0"/>
            <a:ext cx="8686800" cy="7391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762120" y="457200"/>
            <a:ext cx="609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Script MT Bold"/>
              </a:rPr>
              <a:t>Prezentarea este o incursiune in cultura si civilizatia Frantei in cadrul unui circuit turistic, cu scopul de a cunoaste si aprofunda cunostintele despre centrul si monumentele Parisul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eiffel-tower-lb5[1]"/>
          <p:cNvPicPr/>
          <p:nvPr/>
        </p:nvPicPr>
        <p:blipFill>
          <a:blip r:embed="rId2"/>
          <a:stretch/>
        </p:blipFill>
        <p:spPr>
          <a:xfrm>
            <a:off x="-68580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28600" y="76212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Turnul Eiffel a fost construit intre 1887-1889, </a:t>
            </a:r>
            <a:r>
              <a:rPr b="0" lang="it-IT" sz="2400" spc="-1" strike="noStrike">
                <a:solidFill>
                  <a:srgbClr val="ffffff"/>
                </a:solidFill>
                <a:latin typeface="Rockwell Condensed"/>
              </a:rPr>
              <a:t>in onoarea centenarului Revolutiei franceze, </a:t>
            </a: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masoara 324 m si isi schimba inaltimea de cateva ori pe an, din cauza dilatarii aliajului. Necesita 70 tone de vopsea o data la 7 a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eiffel-tower-night-xds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 rot="20671800">
            <a:off x="317520" y="1798560"/>
            <a:ext cx="62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Turnu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este una dintre principalele destinaţii turistice ale Parisului şi lumii, cu mai mult de 5,5 milioane de vizitatori anual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fiecare ora fixa turnul se lumineaza pentru 10 minu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la place du tert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031720" y="594360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Les Bouquinistes de la Se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louvre-museum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28600" y="50292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ush Script MT"/>
                <a:ea typeface="Estrangelo Edessa"/>
              </a:rPr>
              <a:t>Versailles, </a:t>
            </a:r>
            <a:r>
              <a:rPr b="0" lang="it-IT" sz="3200" spc="-1" strike="noStrike">
                <a:solidFill>
                  <a:srgbClr val="ff0000"/>
                </a:solidFill>
                <a:latin typeface="Brush Script MT"/>
                <a:ea typeface="Estrangelo Edessa"/>
              </a:rPr>
              <a:t>Cel mai renumit palat din Franta, 350 de ani de istor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louvre-pyramid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 rot="1291800">
            <a:off x="2705040" y="13860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vrul </a:t>
            </a:r>
            <a:r>
              <a:rPr b="0" lang="vi-VN" sz="2400" spc="-1" strike="noStrike">
                <a:solidFill>
                  <a:srgbClr val="ffffff"/>
                </a:solidFill>
                <a:latin typeface="Tahoma"/>
              </a:rPr>
              <a:t>este cel mai mare muzeu de istorie şi artă din Franţ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Adaposteste cele mai importante opere de arta din lu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9:34:49Z</dcterms:created>
  <dc:creator>sabin&amp;lumi</dc:creator>
  <dc:description/>
  <dc:language>en-US</dc:language>
  <cp:lastModifiedBy>elev1</cp:lastModifiedBy>
  <dcterms:modified xsi:type="dcterms:W3CDTF">2010-09-01T09:08:28Z</dcterms:modified>
  <cp:revision>17</cp:revision>
  <dc:subject/>
  <dc:title>Slide 1</dc:title>
</cp:coreProperties>
</file>